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538-CA3E-4497-A367-59851BAB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7AF-EF12-4ADE-A9E8-5B5294D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253-B7FD-4C17-A5CC-85CC9B0A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AF7-DC25-4CAE-9482-5631029E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123-2D72-4D78-AA3D-7EB90E51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B75-12BD-45C9-852C-9A72AD5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4B3-0819-4817-9307-1EAF90F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D47-9A9B-46C8-A46B-014A6469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093-6110-41BB-9D99-DFACF336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1CD8-9D64-4594-B80D-07001376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14D3-2159-430F-B676-4E866E2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095-4FE1-4DC7-AC2F-B75DB57F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22D3-FADD-45B0-BB7B-3499977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412-6579-4649-B7FB-C63838B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EAC9-4F9E-4CF2-8BBA-20B8F6F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8BBF-258E-4023-8E5A-0F4433D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2C4-5EE0-48F4-9F55-4400720F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155-4456-4013-BD50-DEF06E6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DED-87A0-4C85-9E7A-F7F4AC08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31A-1FF2-4E99-A352-1ED4A463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038-F45E-4A06-A9CF-434DD54F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2DE-B8EC-41BE-AE53-7513792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BDB-E66C-41C4-939A-B472026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28D-F19C-4AE1-BF39-1D27E18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C36-E92A-4068-AD86-D0A762A1B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DFE-0A3C-4D11-82D7-DFCC60FBD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arming Ga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s your group successful?  Wh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What group had it best?  Wh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What separated successful groups from unsuccessful group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What would disadvantaged peoples do to solve their problem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So what… Why is this critical when discussing the origins of World History…what does it tell us (make some prediction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485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10840" cy="50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533520"/>
          <a:ext cx="9144000" cy="6172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on needed from invader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water for crop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to plant &amp; harv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order &amp; pe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to know when to plant &amp; harv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blem/Solu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ction from invad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ild walls, ditches, military, weapons, find all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water for cro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rrigation ditches/man-made stream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ood pond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to plant &amp; harve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ls . . . Plows, selective planting, more peop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order and pea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ate laws, police/army, religion, govt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know when to plant and harve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p the stars, almanacs/records, weather patter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at is Language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re the problems with using pictures/drawing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re the problems with using the code and hieroglyphic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mbols with universal understanding arranged in ways to convey a mess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uneiform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ten Sumerian language (Meso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x recor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Sumerian Cuneiform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uneiformTablet"/>
          <p:cNvPicPr/>
          <p:nvPr/>
        </p:nvPicPr>
        <p:blipFill>
          <a:blip r:embed="rId2"/>
          <a:stretch/>
        </p:blipFill>
        <p:spPr>
          <a:xfrm>
            <a:off x="0" y="3637080"/>
            <a:ext cx="4114800" cy="322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Hieroglyphic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icture writing of ancient Egy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d symbols of common items found in Egy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cross_glyph"/>
          <p:cNvPicPr/>
          <p:nvPr/>
        </p:nvPicPr>
        <p:blipFill>
          <a:blip r:embed="rId1"/>
          <a:stretch/>
        </p:blipFill>
        <p:spPr>
          <a:xfrm>
            <a:off x="3124080" y="2340000"/>
            <a:ext cx="6019920" cy="451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Rosetta Sto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76320" y="83808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86 B.C. – tax records and statue construction ord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ten in a spok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gyptian dial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eroglyphic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eek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overed by Napoleon in 1799 A.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could read hieroglyphics b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lating Greek to Egyptian &amp;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ching Egyptian to Hiero’s . . 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ritish defeat Napoleon &amp;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ke the stone to Engla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Image:Rosetta Stone.JPG"/>
          <p:cNvPicPr/>
          <p:nvPr/>
        </p:nvPicPr>
        <p:blipFill>
          <a:blip r:embed="rId1"/>
          <a:stretch/>
        </p:blipFill>
        <p:spPr>
          <a:xfrm>
            <a:off x="6477120" y="3738600"/>
            <a:ext cx="2666880" cy="31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https://encrypted-tbn2.google.com/images?q=tbn:ANd9GcQ9OxGZ-us_R8jKlbYQUrK8YIzHzeU7auTzfGvc8j7sjVZVD6icHA"/>
          <p:cNvPicPr/>
          <p:nvPr/>
        </p:nvPicPr>
        <p:blipFill>
          <a:blip r:embed="rId2"/>
          <a:stretch/>
        </p:blipFill>
        <p:spPr>
          <a:xfrm>
            <a:off x="7270920" y="316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Video C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Tahoma"/>
              </a:rPr>
              <a:t>History of the World in 2 hou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Tahoma"/>
              </a:rPr>
              <a:t>- 48:00 to 1:00:0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Tahoma"/>
              </a:rPr>
              <a:t>Support the given claim with evidence and your explan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ang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changes in society will happen because of specialized la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ill happen to the price of goo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w that you can get your basic needs faster what will you start doing with your extra ti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sopotami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ed in the Fertile Cresc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gris and Euphrates Riv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werful city-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MAP_MESOPOTAMIA"/>
          <p:cNvPicPr/>
          <p:nvPr/>
        </p:nvPicPr>
        <p:blipFill>
          <a:blip r:embed="rId1"/>
          <a:stretch/>
        </p:blipFill>
        <p:spPr>
          <a:xfrm>
            <a:off x="3886200" y="762120"/>
            <a:ext cx="5257800" cy="47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Ziggurat “Holy Mountain”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mple and city cent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ce for sacrif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 of No Retur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gutians_sumer_ziggurat1a"/>
          <p:cNvPicPr/>
          <p:nvPr/>
        </p:nvPicPr>
        <p:blipFill>
          <a:blip r:embed="rId1"/>
          <a:stretch/>
        </p:blipFill>
        <p:spPr>
          <a:xfrm>
            <a:off x="0" y="3290760"/>
            <a:ext cx="4800600" cy="356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ziggurat"/>
          <p:cNvPicPr/>
          <p:nvPr/>
        </p:nvPicPr>
        <p:blipFill>
          <a:blip r:embed="rId2"/>
          <a:stretch/>
        </p:blipFill>
        <p:spPr>
          <a:xfrm>
            <a:off x="4533840" y="1924200"/>
            <a:ext cx="4610160" cy="4933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sopotamian Class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-12600" y="828720"/>
            <a:ext cx="9169200" cy="58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chievem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ithmetic/geometry – build walls, 60se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iggurats, colum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neifor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de of Law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Hammurabi’s Co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://rds.yahoo.com/_ylt=A0WTefUDPsdI3BYB4WyjzbkF/SIG=12pt5m0c4/EXP=1221103491/**http%3A/acmeme.com/all/travel/conakry/paris/day3/code_of_hammurabi.JPG"/>
          <p:cNvPicPr/>
          <p:nvPr/>
        </p:nvPicPr>
        <p:blipFill>
          <a:blip r:embed="rId1"/>
          <a:stretch/>
        </p:blipFill>
        <p:spPr>
          <a:xfrm>
            <a:off x="5029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ile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8380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ngest River in the world = 4,100 m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fe-blo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ulture_egyptmap"/>
          <p:cNvPicPr/>
          <p:nvPr/>
        </p:nvPicPr>
        <p:blipFill>
          <a:blip r:embed="rId1"/>
          <a:stretch/>
        </p:blipFill>
        <p:spPr>
          <a:xfrm>
            <a:off x="0" y="2681280"/>
            <a:ext cx="563868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Government &amp; Relig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aohs are god-king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ocracy: priests were top advis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1 dynas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kingdoms uni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the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aohs continued ruling after death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mmification saved body for afterlif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yramids and burial chamb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Using the Nil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w and ree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s a narrow strip of fertile la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nile"/>
          <p:cNvPicPr/>
          <p:nvPr/>
        </p:nvPicPr>
        <p:blipFill>
          <a:blip r:embed="rId1"/>
          <a:stretch/>
        </p:blipFill>
        <p:spPr>
          <a:xfrm>
            <a:off x="4248000" y="762120"/>
            <a:ext cx="489600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ile8"/>
          <p:cNvPicPr/>
          <p:nvPr/>
        </p:nvPicPr>
        <p:blipFill>
          <a:blip r:embed="rId2"/>
          <a:stretch/>
        </p:blipFill>
        <p:spPr>
          <a:xfrm>
            <a:off x="0" y="3887640"/>
            <a:ext cx="5562720" cy="297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nvironmen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ert barri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w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dictable flooding (season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much usable la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http://rds.yahoo.com/_ylt=A0WTefOGC5hMFAcAHNajzbkF/SIG=122b70gto/EXP=1285119238/**http%3a/www.crystalinks.com/osirishorusisis.jpg"/>
          <p:cNvPicPr/>
          <p:nvPr/>
        </p:nvPicPr>
        <p:blipFill>
          <a:blip r:embed="rId1"/>
          <a:stretch/>
        </p:blipFill>
        <p:spPr>
          <a:xfrm>
            <a:off x="5943600" y="333684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gyptian Buria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rcophagus protects the physical bod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08%20Sarcophagus"/>
          <p:cNvPicPr/>
          <p:nvPr/>
        </p:nvPicPr>
        <p:blipFill>
          <a:blip r:embed="rId1"/>
          <a:stretch/>
        </p:blipFill>
        <p:spPr>
          <a:xfrm>
            <a:off x="0" y="1905120"/>
            <a:ext cx="685800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Egyptian%2520Sarcophagus"/>
          <p:cNvPicPr/>
          <p:nvPr/>
        </p:nvPicPr>
        <p:blipFill>
          <a:blip r:embed="rId2"/>
          <a:stretch/>
        </p:blipFill>
        <p:spPr>
          <a:xfrm>
            <a:off x="6838920" y="0"/>
            <a:ext cx="2305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ocial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yal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ed/arm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tisans/mercha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rmers/worker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lav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oglyphic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pyrus – paper like pla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endars, geometry, engineering, astronomy, columns, medicine. . 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Image:Egypt Hieroglyphe4.jpg"/>
          <p:cNvPicPr/>
          <p:nvPr/>
        </p:nvPicPr>
        <p:blipFill>
          <a:blip r:embed="rId1"/>
          <a:stretch/>
        </p:blipFill>
        <p:spPr>
          <a:xfrm>
            <a:off x="5943600" y="13716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mage:Egypt.Giza.Sphinx.01.jpg"/>
          <p:cNvPicPr/>
          <p:nvPr/>
        </p:nvPicPr>
        <p:blipFill>
          <a:blip r:embed="rId2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can specialized labor connect civil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problems could be created by specialized la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dus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ed in Northwest Indi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ver changed direc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nsoons inflict dam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Indus_river"/>
          <p:cNvPicPr/>
          <p:nvPr/>
        </p:nvPicPr>
        <p:blipFill>
          <a:blip r:embed="rId1"/>
          <a:stretch/>
        </p:blipFill>
        <p:spPr>
          <a:xfrm>
            <a:off x="4199040" y="762120"/>
            <a:ext cx="4944960" cy="609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dus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5520" y="838080"/>
            <a:ext cx="3048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gged and elevated terrai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y natural barri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-planned ci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Indus"/>
          <p:cNvPicPr/>
          <p:nvPr/>
        </p:nvPicPr>
        <p:blipFill>
          <a:blip r:embed="rId1"/>
          <a:stretch/>
        </p:blipFill>
        <p:spPr>
          <a:xfrm>
            <a:off x="0" y="1828800"/>
            <a:ext cx="6191280" cy="50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Huang He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ang He tint comes from the sil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ans North-central Chin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lers receiv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andate of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ve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hina-yellow-river-b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77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ap_of_China"/>
          <p:cNvPicPr/>
          <p:nvPr/>
        </p:nvPicPr>
        <p:blipFill>
          <a:blip r:embed="rId2"/>
          <a:stretch/>
        </p:blipFill>
        <p:spPr>
          <a:xfrm>
            <a:off x="3352680" y="3762360"/>
            <a:ext cx="6048360" cy="30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inese Writing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veloped early written langu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shijing1"/>
          <p:cNvPicPr/>
          <p:nvPr/>
        </p:nvPicPr>
        <p:blipFill>
          <a:blip r:embed="rId1"/>
          <a:stretch/>
        </p:blipFill>
        <p:spPr>
          <a:xfrm>
            <a:off x="4533840" y="1828800"/>
            <a:ext cx="4610160" cy="5029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hinabrifge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Early Civiliz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ajor River Civil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evolution"/>
          <p:cNvPicPr/>
          <p:nvPr/>
        </p:nvPicPr>
        <p:blipFill>
          <a:blip r:embed="rId1"/>
          <a:stretch/>
        </p:blipFill>
        <p:spPr>
          <a:xfrm>
            <a:off x="0" y="3678120"/>
            <a:ext cx="9144000" cy="3179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arly Peoples: Progres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hnology &amp; Food Drive Humani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mads: Wander in search of f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nter/gatherers: villagers but relocated when supply runs ou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mestication: create tamed herd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illages accelerate progr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tools = farming,             surplus f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food = more people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bor groups &amp; social classes         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vernment stru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MMAG00343_0000[1]"/>
          <p:cNvPicPr/>
          <p:nvPr/>
        </p:nvPicPr>
        <p:blipFill>
          <a:blip r:embed="rId2"/>
          <a:stretch/>
        </p:blipFill>
        <p:spPr>
          <a:xfrm>
            <a:off x="4724280" y="3886200"/>
            <a:ext cx="1076400" cy="663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MAG00343_0000[1]"/>
          <p:cNvPicPr/>
          <p:nvPr/>
        </p:nvPicPr>
        <p:blipFill>
          <a:blip r:embed="rId3"/>
          <a:stretch/>
        </p:blipFill>
        <p:spPr>
          <a:xfrm rot="5400000">
            <a:off x="6143400" y="4829040"/>
            <a:ext cx="771480" cy="56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eolithic Revolu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 given to the time period which humans stopped hunting/gathering and settled in ci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uld eventually lead to the formation of civilizations/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ccurred around 8,000 BC in India and Middle Ea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440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5 </a:t>
            </a:r>
            <a:r>
              <a:rPr b="1" lang="en-US" sz="3200" spc="-1" strike="noStrike" u="sng">
                <a:solidFill>
                  <a:srgbClr val="47ffd1"/>
                </a:solidFill>
                <a:uFillTx/>
                <a:latin typeface="Arial Black"/>
              </a:rPr>
              <a:t>LARGE</a:t>
            </a:r>
            <a:r>
              <a:rPr b="0" lang="en-US" sz="3200" spc="-1" strike="noStrike">
                <a:solidFill>
                  <a:srgbClr val="47ffd1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Characteristics of Civilization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Language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reads idea, keeps records (histories, taxes…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Achievement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 solutions to problems (technology, buildings, weapons, irrigation…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Rule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des of behavior to follow (government and religion create order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Geography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and land features (rivers and resource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conomic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velopment of specialized labor and forms of trad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4 River Civilizatio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Mesopotamia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gris &amp; Euphrates (Iraq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le (Egypt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ellow (Chin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us (Indi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57200" y="3182760"/>
            <a:ext cx="8223120" cy="3729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Benefits of Water!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cess to fresh wat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sh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rtile Soi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sy Transportation/Tra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splash-of-single-drop-in-still-water-pink-and-cyan-rotated-and-cropped-AJHD"/>
          <p:cNvPicPr/>
          <p:nvPr/>
        </p:nvPicPr>
        <p:blipFill>
          <a:blip r:embed="rId1"/>
          <a:stretch/>
        </p:blipFill>
        <p:spPr>
          <a:xfrm>
            <a:off x="7754760" y="0"/>
            <a:ext cx="1389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WaterBottleBob"/>
          <p:cNvPicPr/>
          <p:nvPr/>
        </p:nvPicPr>
        <p:blipFill>
          <a:blip r:embed="rId2"/>
          <a:stretch/>
        </p:blipFill>
        <p:spPr>
          <a:xfrm>
            <a:off x="4952880" y="76212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nile-river"/>
          <p:cNvPicPr/>
          <p:nvPr/>
        </p:nvPicPr>
        <p:blipFill>
          <a:blip r:embed="rId3"/>
          <a:stretch/>
        </p:blipFill>
        <p:spPr>
          <a:xfrm>
            <a:off x="2819520" y="1447920"/>
            <a:ext cx="24588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etski"/>
          <p:cNvPicPr/>
          <p:nvPr/>
        </p:nvPicPr>
        <p:blipFill>
          <a:blip r:embed="rId4"/>
          <a:stretch/>
        </p:blipFill>
        <p:spPr>
          <a:xfrm>
            <a:off x="2971800" y="3133800"/>
            <a:ext cx="3124080" cy="21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page4ancient%2520egytptian%2520boat"/>
          <p:cNvPicPr/>
          <p:nvPr/>
        </p:nvPicPr>
        <p:blipFill>
          <a:blip r:embed="rId5"/>
          <a:stretch/>
        </p:blipFill>
        <p:spPr>
          <a:xfrm>
            <a:off x="2819520" y="30481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6:05Z</dcterms:created>
  <dc:creator>Robert Kuenzi</dc:creator>
  <dc:description/>
  <cp:keywords/>
  <dc:language>en-US</dc:language>
  <cp:lastModifiedBy>Kuenzi</cp:lastModifiedBy>
  <dcterms:modified xsi:type="dcterms:W3CDTF">2015-09-14T15:45:01Z</dcterms:modified>
  <cp:revision>61</cp:revision>
  <dc:subject/>
  <dc:title>Early Civiliz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